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D97-BF77-4CBD-8CBC-ED4F26EC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A6F-14D8-42A8-BECF-2A160B5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098-98C7-4581-8EC7-D4A996E9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89E-2289-4D0A-A3E0-BB7FAF68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146F-14AB-4D25-AC34-F01ED46E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94DF-7C76-4C54-B2EC-16B72477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0C9-3CAD-45E2-8FE4-5B654BD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63C1-6AEC-4D7B-993C-A5A5933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A13-55F0-4BE0-BBFC-ECFE76DE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4540-C085-4C9E-ABEA-54CF40E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1A9-BA29-4C1D-A7C5-2B8D379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BF7-E3AC-42BB-903F-B1C920B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CA7-478D-4E7C-8631-E719C5E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277-861D-4D4F-B732-EC5AFDD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FBA-A384-4DEF-B270-464ABAE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30E-F07A-4EEA-A8A8-37719338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04CD-E4E1-4D87-8712-CD2FA4E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FA3-7BCE-48D9-AC82-CA52C56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125-4097-437C-A801-18B4625D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C33-6408-4E52-AAB6-90F8E8B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D51-3916-4541-ADF9-0541248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2B5-1951-4C7F-9DBF-7CC7A47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1B7-6A21-4814-88A5-98B30B9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B7F-0D79-4DFD-981D-CBC88A4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030-090A-463D-86DB-322CDB53D698}" type="slidenum">
              <a:rPr b="0" lang="de-A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78BF-A11E-4FF3-BACD-228D4F8C464D}" type="slidenum">
              <a:rPr b="0" lang="de-A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Einladung zum</a:t>
            </a:r>
            <a:br>
              <a:rPr sz="5000"/>
            </a:b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sentation erstellt v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um: 21. Mär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eit: ab 10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rt und Ziel: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Anmeldu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m Gemeindeam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äglich zwischen 8:00 und 15: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lefonisch unter 22 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Bis 15. Mär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osten: KE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Unser Te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ür Ki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1.000 Meter-La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ginn: 12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recke: Sportplat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Volksschu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3.000 Meter-La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ginn: 13:00 U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recke: Sportplat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Bahnho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portpl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6633"/>
                </a:solidFill>
                <a:latin typeface="Garamond"/>
              </a:rPr>
              <a:t>Für Erwachse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5.000 Meter-La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1:0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cke: Sportplatz – Bahnhof – Schlossberg – Sport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0.000 Meter-La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0:3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cke: Sportplatz – Schlossberg – Schwarzwald – Sport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athon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inn: 10:00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2.195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06633"/>
                </a:solidFill>
                <a:latin typeface="Garamond"/>
              </a:rPr>
              <a:t>Frühjahrslauf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ilnehmerInnen und Sieger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3:15:52Z</dcterms:created>
  <dc:creator> </dc:creator>
  <dc:description/>
  <dc:language>en-US</dc:language>
  <cp:lastModifiedBy>Trainer G</cp:lastModifiedBy>
  <dcterms:modified xsi:type="dcterms:W3CDTF">2004-08-27T15:54:40Z</dcterms:modified>
  <cp:revision>11</cp:revision>
  <dc:subject/>
  <dc:title>Einladung zum Frühjahrslauf</dc:title>
</cp:coreProperties>
</file>