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E250-0DF3-4A36-BA7F-B8FA32CE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BE9C-2F55-421E-9533-BB495DD2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7B41-1F69-404C-A59A-6AD9E967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0714-8337-4DDE-8156-DE3752F7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8B34-54C0-4EA6-8D3A-3F892E41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E12D-B530-4252-B2E7-7DEA6603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4B22-BEEB-4E4A-A44A-1374FF90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05A0-9487-44FD-AAFD-1BC294F0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7AAC-6880-48FB-A0EC-E4413CB9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A567-7FC0-469C-A1E5-989E68E4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9534-ACC7-4BCD-A899-4CC567D3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771E-9491-401A-B485-4ECB1465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2E0F-E2FC-4415-AF88-983E8B6C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0BFE-78CD-4A11-BF6A-77AB9413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01D2-CF84-410A-B072-7AD4FA53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4145-BB0E-408E-BC81-5F082AFB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28CE-7E0B-4B3B-B65F-0C0DDEFF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8200-445C-42F7-9F64-0A55E8E9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F96A-585A-4BFC-9536-B64E0308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C7FE-502F-47FB-B60F-5D4CA931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69F5-5C5F-42AF-B8D5-B2B396AE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5364-F083-47B0-85D6-B9DAEA9F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A0F0-69C3-41D6-92C8-E777515F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A986-B042-47F0-9672-54110C67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08C9-AEC6-4BD0-84FD-683B7F402FA7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885080" y="260280"/>
            <a:ext cx="959040" cy="27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A2FD-4EEC-4D8F-A41A-86BA4A9BE2C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7885080" y="260280"/>
            <a:ext cx="959040" cy="27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5580000" y="3716280"/>
            <a:ext cx="259236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: 13:00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000 Meter-La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fdef6"/>
                </a:solidFill>
                <a:latin typeface="Arial"/>
              </a:rPr>
              <a:t>Tagesablauf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684360" y="3287880"/>
            <a:ext cx="1869840" cy="17953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611280" y="1484280"/>
            <a:ext cx="2592360" cy="865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rt: 10:30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000 Meter-La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268360" y="2228760"/>
            <a:ext cx="2592720" cy="865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rt: 11:00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5.000 Meter-La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924360" y="2973240"/>
            <a:ext cx="2592360" cy="865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rt: 12:00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.000 Meter-La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1280" y="5229360"/>
            <a:ext cx="7705800" cy="936360"/>
          </a:xfrm>
          <a:prstGeom prst="rect">
            <a:avLst/>
          </a:prstGeom>
          <a:blipFill rotWithShape="0">
            <a:blip r:embed="rId2">
              <a:alphaModFix amt="34000"/>
            </a:blip>
            <a:srcRect/>
            <a:tile tx="0" ty="0" sx="100000" sy="100000" algn="ctr"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tart: 10:00 Uhr - Marathonlau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fdef6"/>
                </a:solidFill>
                <a:latin typeface="Arial"/>
              </a:rPr>
              <a:t>TeilnehmerInn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69800" y="1600200"/>
          <a:ext cx="820260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00200"/>
                    <a:ext cx="820260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fdef6"/>
                </a:solidFill>
                <a:latin typeface="Arial"/>
              </a:rPr>
              <a:t>Marathonlauf - Streckenführu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900000" y="2781360"/>
            <a:ext cx="1800360" cy="368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portpla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00000" y="5878440"/>
            <a:ext cx="1800360" cy="368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atha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867280" y="4329000"/>
            <a:ext cx="1800360" cy="368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chwarzwa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2781360"/>
            <a:ext cx="1800360" cy="368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ahnh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00000" y="4329000"/>
            <a:ext cx="1800360" cy="368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chlossbe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916360" y="2997360"/>
            <a:ext cx="27352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916360" y="4510080"/>
            <a:ext cx="27352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987640" y="6094440"/>
            <a:ext cx="19447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59640" y="3357720"/>
            <a:ext cx="0" cy="792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92360" y="4941720"/>
            <a:ext cx="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Arial"/>
              </a:rPr>
              <a:t>Marathonlauf - Gewinn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iegerin: Karin Hasl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ieger: Peter Ste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971640" y="2567160"/>
            <a:ext cx="1805040" cy="27399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3706920" y="3500280"/>
            <a:ext cx="1805040" cy="2735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443640" y="2852640"/>
            <a:ext cx="1805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15:11:56Z</dcterms:created>
  <dc:creator> </dc:creator>
  <dc:description/>
  <dc:language>en-US</dc:language>
  <cp:lastModifiedBy>Trainer G</cp:lastModifiedBy>
  <dcterms:modified xsi:type="dcterms:W3CDTF">2004-08-30T16:41:31Z</dcterms:modified>
  <cp:revision>11</cp:revision>
  <dc:subject/>
  <dc:title>Tagesablauf</dc:title>
</cp:coreProperties>
</file>