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F8C7-8470-4459-AF64-ABC59F0F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250-4F4E-4575-9DB5-4090315B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5A16-CE1F-4332-A640-90149C1E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5F0-4A12-40D8-8FE9-B0E2673C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1D57-56D9-45B9-90F4-EC48DF2C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433-AC79-4332-893A-3FF76B49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563C-51A1-4A60-933C-F205C680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E80-72F9-47B8-80A6-EBD15440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BA0-F758-43C8-B58E-BD904B56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7EC8-E4F0-41AA-8967-295D5B1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7758-BF32-4D54-9686-99A911DF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DB5-414C-4135-ADEE-2D470E9D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4110-0E01-40DA-B78F-AF94A03B560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2:10:57Z</dcterms:created>
  <dc:creator>Österreichische Computer Gesellschaft</dc:creator>
  <dc:description/>
  <dc:language>en-US</dc:language>
  <cp:lastModifiedBy>Österreichische Computer Gesellschaft</cp:lastModifiedBy>
  <dcterms:modified xsi:type="dcterms:W3CDTF">2004-07-17T12:12:17Z</dcterms:modified>
  <cp:revision>1</cp:revision>
  <dc:subject/>
  <dc:title>Folie 1</dc:title>
</cp:coreProperties>
</file>