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8CDA-7B73-47B8-801A-BAA6B81C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93F6-4401-4339-B68D-C9364955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6329-49B0-4554-82E4-39A43A1C3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F949-3254-4FE8-8E2D-FEA5E9DF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57BB-74F7-49FE-93DB-07EE2A4D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CF9-1889-4DA4-A1D8-C390AECF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AF75-75FF-4DD0-B35F-2728D3EF3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3C2C-381B-444F-B9D7-7B131434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1441-CB41-4FFB-BB07-D06B040E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1D3-3B86-4E69-B8B4-5313DC04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1CBA-B558-4D1E-B44E-A3ADC917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7BDC-1164-442C-B61D-5A8B222D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F9E4D-77D0-4785-98BB-54BC6FA8B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CDL </a:t>
            </a:r>
            <a:r>
              <a:rPr b="0" i="1" lang="de-DE" sz="44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Österreichische Computer Gesellschaft</cp:lastModifiedBy>
  <dcterms:modified xsi:type="dcterms:W3CDTF">2004-07-18T15:11:22Z</dcterms:modified>
  <cp:revision>4</cp:revision>
  <dc:subject/>
  <dc:title>Folie 1</dc:title>
</cp:coreProperties>
</file>