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1CC1-9DCF-4DCC-B927-B37D011F7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054C-3187-4C35-BFF9-EEAC37AA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AC89-DF8A-4CA8-9CAC-F400FD8A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0BBC-2457-40DB-8EFE-B25EE896A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96FE-6D94-4701-A78B-EB948ACE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77D8-7B53-47AA-B550-320EC678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B2E7-72BF-43CD-B7FA-39D3692D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5028-C280-424D-8EAE-4C28DC0D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4125-18C6-4C6A-9D42-C953EFAD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857B-2D29-4698-A28C-45943EED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8AD5-D22D-429D-A625-F9A42810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5614-E97D-4600-8F04-18FE7AA8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12D5-12D9-4851-B760-54C5BCD83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7T12:10:57Z</dcterms:created>
  <dc:creator>Österreichische Computer Gesellschaft</dc:creator>
  <dc:description/>
  <dc:language>en-US</dc:language>
  <cp:lastModifiedBy>Österreichische Computer Gesellschaft</cp:lastModifiedBy>
  <dcterms:modified xsi:type="dcterms:W3CDTF">2004-07-18T15:07:59Z</dcterms:modified>
  <cp:revision>4</cp:revision>
  <dc:subject/>
  <dc:title>Folie 1</dc:title>
</cp:coreProperties>
</file>