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8862-E488-4730-99CE-CD8BA981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35DE-BE5B-4B11-AA98-961F5B94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41D8-5026-4360-AB1F-F19E716D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7F21-E594-4AFF-A64A-30923EF9E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D589-E192-44A8-8AA8-849FFE05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D39C-0965-43BF-8FFC-59D7CC97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B495-6124-4CF3-97EF-8FE32871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EBE7-D206-4A99-BE00-3FA2844E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6B7F-880C-42E6-9089-9E68F417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FAF-E599-4A5B-94C9-31E4689A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0DCE-3F57-47EB-8CD2-99F2E58E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CF14-3DA7-4693-BAE2-8931D575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F383-3E1B-4D3D-9C23-3C2F9F046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07:37Z</dcterms:modified>
  <cp:revision>3</cp:revision>
  <dc:subject/>
  <dc:title>Folie 1</dc:title>
</cp:coreProperties>
</file>