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B92-6DCE-4E7C-81EC-087CBE1C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0549-1FAF-48D1-8EE6-05E2893B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EC00-A5F6-4C21-A2D6-18078A21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DC3-985D-4E78-846B-860FA29A9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D83-3F98-41B6-9765-AF5192E3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B2E2-E300-4949-B96D-EDD8C7E4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D0E-467A-4122-9139-24D5F562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A9CA-B1AA-4E0D-8E97-BE2F4B7E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ADA5-99FE-47DF-8705-D541B98C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3A8-E2F8-4953-84C2-B1D1D45B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B8AA-1B10-419C-B9C7-B0EE3762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3138-8700-4405-AD10-7D65C483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3BDE-D2C6-43D2-AA77-2D1FE40C0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50Z</dcterms:modified>
  <cp:revision>3</cp:revision>
  <dc:subject/>
  <dc:title>Folie 1</dc:title>
</cp:coreProperties>
</file>